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7AEB-5F1C-4627-A4D3-C71BAF414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9589-8A5A-462C-9815-8C1CF48B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3040-B26E-4571-8F8F-805DBECEF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24C9-1F3A-437E-BF20-C7243B6E0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2811-B334-4792-980E-934DC5E0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07F-76F5-46D8-ABFD-0F01C17A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60C8-A0E7-4F45-9B46-184023A5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993C-C0C0-4A00-85EE-6E699592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E50-FC67-4221-B4CB-663B20B8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03D-2230-485A-A924-79162E67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1E9E-52B3-4D05-B5B4-AA34B21D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C4E-EF89-4023-AF7C-EA85A5E0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BF02-DAB2-48C2-9A91-B00ED237D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on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 Usage and Pro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ommas where needed in the following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geball a sport Raines should quit is very popular in Mountain Br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geball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port Raines should quit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very popular in Mountain Br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sentence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in will I am sure, be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’s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word(s) that should be followed by a comma and put one after the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We’re eating dinner now but I’ll call you back as sonn as we fin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Are you busy Friday night or would you like to go to the movies with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Don’t forget to take your history book home this weekend for the test Mo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The recipe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lly’s Cook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adapted for the modern cooks yet the ingredients listed are all tra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Quilting is a practical folk art and it is also a relaxing and enjoyable pas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no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igh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eeke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cook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ar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ronoun does not agree with its antecedent write the correct pro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Each of the skiers waxed their skis every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Every one of the reporters at the press conference asked their questions too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I think that anybody should be free to express their opi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Both of the male soloists pronounced his words clear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If anyone gets lost while exploring Salt Lake City, they should use the street maps available from the tour gu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As far as I could see, each of the speakers made a mistake while presenting their argument during the deb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to pro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his or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his or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his or her or an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he or 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his or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371600" y="2438280"/>
            <a:ext cx="613404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End Enjoy your studing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the Quiz 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 pronoun should refer clearly to its _____. Fill in the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ce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Jack wants to go to their f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wrong with this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lear whose farm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ree personal pronouns should you av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, it, and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hould the comma go in the following sentence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you are welcome to join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because its an introductory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9:06:25Z</dcterms:created>
  <dc:creator>User</dc:creator>
  <dc:description/>
  <dc:language>en-US</dc:language>
  <cp:lastModifiedBy>User</cp:lastModifiedBy>
  <dcterms:modified xsi:type="dcterms:W3CDTF">2006-10-10T19:18:15Z</dcterms:modified>
  <cp:revision>3</cp:revision>
  <dc:subject/>
  <dc:title>Revision 1 </dc:title>
</cp:coreProperties>
</file>